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E06-0EB5-4476-842D-28E48232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FDA-9452-4D9B-AB31-167CC3A5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D864A-74B2-46E1-9B8A-5B920FF5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0B983-FD9D-4D51-AA9A-6F0F3501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48BB5-957A-4956-B0DC-B1C7B0DE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1680F-FE4F-4C81-A04F-DEB7B262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4A133-95AA-43F6-AAF2-DCB4AE9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E65E7-8375-4713-904D-FD79EF3B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57375-9D81-4AAB-8DB0-C62DCF16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B6E97-7291-4217-8EEE-DCDBC713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1703C-9CA0-44DF-B8FE-9F723B30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FE8F2-76A0-400B-BF9D-B9F331E1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184-9C01-48BE-8F83-93B52641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D8642-5D64-48BB-A62D-A086E48A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7974E-9C3C-4DF6-B02F-C5211202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E0C97-E9B9-4980-A05D-CCB47AA1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A9D2B-31BA-4759-A254-4EACF270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C341A-FEAA-4158-9DCA-F824E7C6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77EBA-89AB-40B7-BBEB-2D64F91C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58CC6-9863-45AE-BB20-F5C818E9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21ED2-D70A-447B-B409-6F28E9A6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39C58-898A-4243-9D76-35D67FD9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4E00A-47D0-4C3B-AF25-DBB70BB1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375-82C6-4700-8711-399B66BF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C57F6-EC25-4228-AA4D-23C1C44F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F3561-8728-42D8-AA86-3A66BE78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C079F-2C93-4100-948B-41C674DE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1C47E-3210-436A-8A8C-A078CFF6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92543-171F-461F-89CD-EB9F71A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ED4D3-C082-40AD-B26C-CB7DE2D1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13EE1-4400-4B9A-86F4-6E4695C9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536F0-977B-4254-900C-C63238D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202FC-1F6C-4ABB-968B-6D6698DE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BE2C1-4C72-4CCD-9AC0-59AE656F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1F28-E222-44BD-88D2-8E1C32BA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3CCE1-96BA-4B96-A016-F33C2AAF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27231-14B3-4A17-872A-33897A01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4C2AD-161F-4F3D-8DDD-DE5B1EC6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65982-CA5F-409A-B28C-16CFAFB3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14F9C-8937-4DD3-9B95-1F752A47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97870-1DBC-484C-9AC4-8848681C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80D6B-87CE-4E32-9FAB-EEDF511B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27A7E-BE87-4516-85DE-C0035484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BEE91-EB11-46B6-A288-0E7465C3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6FC44-5858-4F70-8E6C-5730ED3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CE46-FBE7-4FC0-9C94-246567BD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A7798-A3BA-4555-A6A5-AEA71FA1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75C17-4EDD-4B7B-93FB-FD61399B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2E31F-574C-4758-8142-8C0F1BDF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C8FF7-6E24-4A0D-B23D-B78CA3DF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BB4B9-6BC7-498B-BE63-1FAF8B6C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7B822-FC07-47DE-BB0D-AFE5208C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AB212-FFC6-4088-96A9-FB3A3873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BC32F-9580-4A25-A104-DB5B40A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34F6B-0D72-4C1C-83A2-F4689C53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BF5E9-C2DD-456C-B74D-EC017702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657D-574C-488B-BA34-9C71EF76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6EA21-3F29-4DB6-9970-3DB4AE34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943D7-9CCB-4C2A-8E43-37F404C2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FCD69-CD92-4C0D-BA4C-5C5F3A6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7A905-0C4C-4A2C-A2F2-21E5D2C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85445-29F8-4FF1-90ED-A368A4A1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DBB42-E77A-43E8-BAED-F4D38073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86256-2985-4018-AFDA-64452A68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B19FA-FF3E-423C-95CC-EF8A325B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E3018-2A7D-4CE1-BED0-2891F770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626CB-5D4A-4EB8-9C4C-5C0E50DD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0F3B-8A21-4026-A2C2-FEEF8DFF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64007-F1C7-4ED7-A8EC-4A73A6B8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212E7-C2BA-46B2-B490-EE85D0C6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0C2ED-B4B6-42E5-8F68-0ACBBAC2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FD715-4DEB-43EF-8671-ED173A9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BD704-C291-4D40-BA16-1A59511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45D42-E18E-47CD-9032-FA37CEE3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ECC27-5076-48F9-BB43-41BCA6B2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3A2FD-5529-48CD-B128-07B01C80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FE103-0BDD-4531-9952-BCB78BBF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46EFE-4F76-4E31-9B26-EF195D46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E86A-CD23-4DBA-B257-907C1940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7927C-F0AB-4471-849F-0A29DA0B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0E566-36CE-42F9-864C-B114F2CB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DCC01-9264-4BA0-B100-DA10E5F6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C8B76-AFA5-4B20-842B-E0ADEA85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A4A56-0494-4EA7-9525-B8FB5D2E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3620E-2C14-49BE-A332-EA6E6B69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73733-4628-4CA6-94CD-C7B08649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026F5-91F5-4CEB-B85E-03063A3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0CBD8-1448-46DF-955B-BAFE0FB8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FC724-70B0-48E1-8164-8F671E78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BCDE-4956-480F-8F51-FA0BA818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B0237-23A6-44E4-A723-3A1582E0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1618-1BEE-4F32-A571-BF834B2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032-AEE4-4DB3-AA07-FA6596C4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5D87-B6B2-4ACA-B182-8D3A1EC8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4985-F80F-4640-AF5D-84E3980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B6C7-157B-41A1-9A69-8D019166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49AD-F43A-4CC5-82BF-575C7267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EC4C-C3A2-469B-A340-114EF6A0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8820-8E55-4DAC-A013-D667408E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FB41-AC55-4969-A24D-273A6892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BEC9-5206-4671-A9C9-788D3029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2912-AF04-4AD8-AA66-EDE7298E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5586-2AD8-435A-8F2B-5079B0A7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BF9-B24C-4FBB-9551-6F986E8C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E8CC-7023-408C-AA9C-79B43040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5356-1B7F-43A0-BAC6-550BCB91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1D7D-0870-409B-BBA6-C5AAA1B8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967B-BAED-4C29-98C6-638E5CAC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E33B-8746-41E5-BEF8-95C6A602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3998-74D7-456C-A6CB-F958C3F6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8F585-AA93-4BF3-B403-5D75E4F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C55A-A9BF-4558-BCF4-64F9E7E4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E5755-6624-42D1-BD0E-BCD663C9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EA932-3F9C-4A93-AB9B-74EC08BD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84D-F31D-4ABA-8E5A-BDF38CDF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20C44-2D4E-48B5-A2C1-86785F8E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8CF8C-321B-4DC6-B23A-0F1E5185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7EE1-2AC3-4A50-9B2F-8B20826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97AD-092C-4EAA-88F0-ABF0BFD8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0FB1-E43A-4CF3-AA64-5D2D03C6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685B8-B088-40E1-B500-6D7B341F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0A16-903A-48E4-AB24-9035D441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F13EE-06FD-4E5F-ABF0-F8ADF8BE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27A2-9765-4089-8DF7-378CAA25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84378-6EBB-4F0D-94C2-05E1EDC1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302-6C90-47A8-A701-39E91767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5AE23-DF9A-49BA-9B39-F0C48543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0FB45-7D0F-486E-B5E7-2EAF2C85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62D8-B07B-499B-B5D3-4F0D2E3A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52DF-5F39-47B2-991B-BF5CE4A2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373F1-EC1F-4C36-8E7F-901D7DAB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E78C-FF0E-4C36-A144-EB617A3B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5BE6-8D80-48C2-A5C6-46E31AF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8209-3011-417C-9F24-042F782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DDD6-C2C1-4B6A-843C-173F5717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33F6-5B6E-48FF-9D4C-5A3E766C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07F-0E25-4BF7-986C-01ED36B3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8A20-F566-417C-BD91-F23C8F1E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4A14A-2466-4BCD-B385-7A9B2308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F18E4-A0B6-4B01-A445-9E30732E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8072-5B5F-416E-9DC6-E78B6AEF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11DD1-E5C1-4AF4-BDD2-1C663217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167BC-88BB-45D4-908E-661CFAE2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DE7D-5476-4415-8B9A-30613218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ADDC-E06A-457B-839E-A6F17B8E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78D8-69A7-438E-AC5F-E632938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C490-7A39-446F-8DBF-B62ABFF2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206-C730-4D27-8EB2-DD95968C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0C68-C02D-4623-AAEF-9182F86E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D62A5-4F51-4677-BA98-09139FB5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E6069-C7FC-49F2-8AFB-B8D7E8E8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F79DA-C2E9-493E-9393-96E5E3D7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61194-5F7E-4F20-B103-445F570A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7C150-F3DB-4015-B55A-49A5DDEF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D9F8D-D3D7-47A0-A566-D941E064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73471-6465-4A4D-80BD-F39E50E1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340B0-1BE7-465C-A827-636D4ECC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21A2-3423-4587-9633-344EF4F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51B-C22F-4932-8D3A-DCD0C0F5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8EBEA-15A9-43AF-84E1-78827C32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A698-02A3-4F5D-AF10-8F73DC8A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4A7A6-A451-4A29-8184-DD71BDF7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FE7A0-B2A7-4CE1-B5C0-EA06FDD7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F42E7-98A2-4D28-8449-2C553CF4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9A6FC-8DB0-4806-BBA7-B3080A02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57777-5B2E-4074-9EB2-701C791F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7F36C-7A6C-4288-8A31-56798310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140B1-0396-443C-9BDF-0FFF526D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E70CE-A12E-4829-B04D-9001A144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C76-A351-484C-B08F-7DB55BDD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AF1D1-0637-43A9-A801-C13B03CC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AC49F-71FB-4E8D-900F-71CF46BB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26BF8-F209-48AD-99F1-759B304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F3DDF-8FE5-4B18-A945-053BA22A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C7811-8078-4284-8189-22FE3E07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319FB-AE5B-49A7-B9F2-ED709104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72645-69C9-4ECD-A350-A0E47D5F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B113A-AA72-4EE1-889D-709CA6A5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5195B-C469-4F15-96D4-67EC4842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71439-3240-4F19-A439-CA484A08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4129-7A88-451B-8AD0-014BC9B4D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04C3-7670-4B7E-BF0B-44288B92D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C85B-039F-49E4-B7FF-ED5DCCE1D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5AA7-807F-463C-8BFF-65C6585D1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0383-217C-49B5-BC7B-05E74127B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6AD1-3014-4B6A-9C95-ED7917EB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F955-ED48-4C57-8C18-63ABF22FF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C120-2306-46DA-A0E1-B43F2A3BA4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C501-DF88-43EA-A34B-BC69C463D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83B1-0D00-47EB-A22C-4045F7E14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E7CF-962D-4C68-B9B1-25B5C0132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9326-8CE6-44B7-AA3B-FE1EEC47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526B-BBC1-457C-A31C-8B651957C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841B-2DB8-4C36-81C6-B37CA7FC3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80F9-5EC4-4D74-91FF-6D516B90F7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uts.cc.utexas.edu/~sparta/index.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upload.wikimedia.org/wikipedia/commons/c/c0/Greek_vase_with_muse_and_kithara_on_mount_helikon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0" y="0"/>
            <a:ext cx="4800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3-2-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Homework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0" y="1066680"/>
            <a:ext cx="5791320" cy="30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: 3-2-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Which city-state was known for its strict militar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city-state was known for its superior education in drama, speech, literature, and philosoph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If you have time…read a Greek myth at Myth Web.com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4876920" y="1371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par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4419720" y="2057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21" descr="sparta"/>
          <p:cNvPicPr/>
          <p:nvPr/>
        </p:nvPicPr>
        <p:blipFill>
          <a:blip r:embed="rId1"/>
          <a:stretch/>
        </p:blipFill>
        <p:spPr>
          <a:xfrm>
            <a:off x="5791320" y="0"/>
            <a:ext cx="1257120" cy="5716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3" descr="slice_on_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533520"/>
            <a:ext cx="1257120" cy="8474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5" descr="shilouettedathena.gif (11747 bytes)"/>
          <p:cNvPicPr/>
          <p:nvPr/>
        </p:nvPicPr>
        <p:blipFill>
          <a:blip r:embed="rId4"/>
          <a:stretch/>
        </p:blipFill>
        <p:spPr>
          <a:xfrm>
            <a:off x="7543800" y="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7" descr="10908129"/>
          <p:cNvPicPr/>
          <p:nvPr/>
        </p:nvPicPr>
        <p:blipFill>
          <a:blip r:embed="rId5"/>
          <a:stretch/>
        </p:blipFill>
        <p:spPr>
          <a:xfrm>
            <a:off x="5772240" y="1857240"/>
            <a:ext cx="3371760" cy="50007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1" descr="photo&#10;      of spartan king"/>
          <p:cNvPicPr/>
          <p:nvPr/>
        </p:nvPicPr>
        <p:blipFill>
          <a:blip r:embed="rId6"/>
          <a:srcRect l="0" t="0" r="8340" b="0"/>
          <a:stretch/>
        </p:blipFill>
        <p:spPr>
          <a:xfrm>
            <a:off x="2438280" y="4038480"/>
            <a:ext cx="3353040" cy="28195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Image:Mousai Helikon Staatliche Antikensammlungen Schoen80 n1.jpg"/>
          <p:cNvPicPr/>
          <p:nvPr/>
        </p:nvPicPr>
        <p:blipFill>
          <a:blip r:embed="rId7"/>
          <a:srcRect l="17476" t="0" r="10678" b="10171"/>
          <a:stretch/>
        </p:blipFill>
        <p:spPr>
          <a:xfrm>
            <a:off x="0" y="3657600"/>
            <a:ext cx="2438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3"/>
          <p:cNvSpPr/>
          <p:nvPr/>
        </p:nvSpPr>
        <p:spPr>
          <a:xfrm>
            <a:off x="1981080" y="51055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y: Tim Ram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198108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hens &amp;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athena_poseidon"/>
          <p:cNvPicPr/>
          <p:nvPr/>
        </p:nvPicPr>
        <p:blipFill>
          <a:blip r:embed="rId1"/>
          <a:stretch/>
        </p:blipFill>
        <p:spPr>
          <a:xfrm>
            <a:off x="609480" y="1676520"/>
            <a:ext cx="4381560" cy="2895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artemis"/>
          <p:cNvPicPr/>
          <p:nvPr/>
        </p:nvPicPr>
        <p:blipFill>
          <a:blip r:embed="rId2"/>
          <a:stretch/>
        </p:blipFill>
        <p:spPr>
          <a:xfrm>
            <a:off x="5410080" y="1447920"/>
            <a:ext cx="2743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1143000" y="990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athensmap"/>
          <p:cNvPicPr/>
          <p:nvPr/>
        </p:nvPicPr>
        <p:blipFill>
          <a:blip r:embed="rId1"/>
          <a:srcRect l="2943" t="0" r="0" b="6973"/>
          <a:stretch/>
        </p:blipFill>
        <p:spPr>
          <a:xfrm>
            <a:off x="2209680" y="3581280"/>
            <a:ext cx="5029200" cy="30481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"/>
          <p:cNvSpPr/>
          <p:nvPr/>
        </p:nvSpPr>
        <p:spPr>
          <a:xfrm>
            <a:off x="457200" y="457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Athens and Spar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A Contrast in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304920" y="20574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Although these city states were only 300 miles apart, their cultures were vastly different in many ways. Three of those are the treatment of children, women in society, and cus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7" descr="Spartan soldier"/>
          <p:cNvPicPr/>
          <p:nvPr/>
        </p:nvPicPr>
        <p:blipFill>
          <a:blip r:embed="rId2"/>
          <a:stretch/>
        </p:blipFill>
        <p:spPr>
          <a:xfrm>
            <a:off x="7310520" y="1224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athenastatue"/>
          <p:cNvPicPr/>
          <p:nvPr/>
        </p:nvPicPr>
        <p:blipFill>
          <a:blip r:embed="rId3"/>
          <a:stretch/>
        </p:blipFill>
        <p:spPr>
          <a:xfrm>
            <a:off x="434880" y="139680"/>
            <a:ext cx="152424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3"/>
          <p:cNvSpPr/>
          <p:nvPr/>
        </p:nvSpPr>
        <p:spPr>
          <a:xfrm>
            <a:off x="228600" y="228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228600" y="380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4572000" y="1143000"/>
            <a:ext cx="42670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Boys were taught by their mothers until age seven and then sent to a day schoo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Other than reading, writing, and math, they were educated in the arts, government, and dra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ey also learned how to play a lyr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At eighteen, they entered military school for two additional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ey were taught how to be a good citizen of Athens and have good mor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99072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ld Upbringing in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3" descr="plato"/>
          <p:cNvPicPr/>
          <p:nvPr/>
        </p:nvPicPr>
        <p:blipFill>
          <a:blip r:embed="rId2"/>
          <a:stretch/>
        </p:blipFill>
        <p:spPr>
          <a:xfrm>
            <a:off x="304920" y="990720"/>
            <a:ext cx="1987560" cy="2209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socrates"/>
          <p:cNvPicPr/>
          <p:nvPr/>
        </p:nvPicPr>
        <p:blipFill>
          <a:blip r:embed="rId3"/>
          <a:stretch/>
        </p:blipFill>
        <p:spPr>
          <a:xfrm>
            <a:off x="2438280" y="990720"/>
            <a:ext cx="1746360" cy="21333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5"/>
          <p:cNvSpPr/>
          <p:nvPr/>
        </p:nvSpPr>
        <p:spPr>
          <a:xfrm>
            <a:off x="152280" y="3352680"/>
            <a:ext cx="190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Boys in Athens had to learn about Plato (above) and Socrates (righ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17" descr="Image:Greek vase with muse and kithara on mount helikon.jpg">
            <a:hlinkClick r:id="rId4"/>
          </p:cNvPr>
          <p:cNvPicPr/>
          <p:nvPr/>
        </p:nvPicPr>
        <p:blipFill>
          <a:blip r:embed="rId5"/>
          <a:srcRect l="22902" t="4169" r="24746" b="6251"/>
          <a:stretch/>
        </p:blipFill>
        <p:spPr>
          <a:xfrm>
            <a:off x="2666880" y="3276720"/>
            <a:ext cx="1447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5"/>
          <p:cNvSpPr/>
          <p:nvPr/>
        </p:nvSpPr>
        <p:spPr>
          <a:xfrm>
            <a:off x="2133720" y="-507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ld Upbringing in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304920" y="365040"/>
            <a:ext cx="426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ce a son was seven years old, he was taken from his mother to go to military schoo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military school, they trained to be a disciplined warri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ool courses were very painful and difficult. They were taught the very basics of reading and writing, but warfare was the only thing that mattered to the Spart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oys weren’t fed well and were taught to steal –but were punished if they were cau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artans thought that any kind of luxury made a person spoiled, so they did not believe in entertainment or comfort.  Their food was bland and their clothes were pl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oys had to live in barracks away from their family. They lived apart until the age of six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7" descr="spartaweapons"/>
          <p:cNvPicPr/>
          <p:nvPr/>
        </p:nvPicPr>
        <p:blipFill>
          <a:blip r:embed="rId2"/>
          <a:srcRect l="6668" t="0" r="0" b="0"/>
          <a:stretch/>
        </p:blipFill>
        <p:spPr>
          <a:xfrm>
            <a:off x="4724280" y="182880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ras Bold ITC"/>
              </a:rPr>
              <a:t>Women in Athens and Sp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5" descr="women"/>
          <p:cNvPicPr/>
          <p:nvPr/>
        </p:nvPicPr>
        <p:blipFill>
          <a:blip r:embed="rId2"/>
          <a:stretch/>
        </p:blipFill>
        <p:spPr>
          <a:xfrm>
            <a:off x="3429000" y="2133720"/>
            <a:ext cx="2324160" cy="319068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6"/>
          <p:cNvSpPr/>
          <p:nvPr/>
        </p:nvSpPr>
        <p:spPr>
          <a:xfrm>
            <a:off x="380880" y="2057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Women were only a small step above sla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3200400" y="9907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s were taught wrestling, gymnastics and combat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6477120" y="17524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he passed the test for strength, she was allowed to be a citiz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533520" y="32004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were not citizens and were under their husband’s author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304920" y="5638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 &amp; 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s were arranged by the father of the br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6019920" y="38862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ir husbands didn’t live at home, the women enjoyed a great deal of freed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152280" y="838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ould not own prop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13"/>
          <p:cNvSpPr/>
          <p:nvPr/>
        </p:nvSpPr>
        <p:spPr>
          <a:xfrm>
            <a:off x="5410080" y="56707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ould not wear jewelry, make-up, or colored clo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5"/>
          <p:cNvSpPr/>
          <p:nvPr/>
        </p:nvSpPr>
        <p:spPr>
          <a:xfrm>
            <a:off x="2438280" y="304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ras Bold ITC"/>
              </a:rPr>
              <a:t>Weird Cus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8380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partan babies were washed in w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1676520" y="19810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Spartan infants were not strong enough then they were thrown over a cli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533520" y="37339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artan boys marched without shoes to make them str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1523880" y="51055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n Sparta when a woman was married, her head was shaved and was made to wear men’s clothing until the ceremony was ov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5562720" y="22096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Parents in Athens considered their children “youths” until the age of thi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2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ras Bold ITC"/>
              </a:rPr>
              <a:t>Conclu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4191120" y="1295280"/>
            <a:ext cx="46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Sparta did not produce much art or philosophy or any written work, but its people were admired for keeping alive the Greek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152280" y="350532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s was famous for its literature, poetry, drama, theater, government, ( our own government is modeled after it ) and producing the world’s greatest thinkers. It is clearly the shining star of all the Greek   city-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8" descr="spartaremains"/>
          <p:cNvPicPr/>
          <p:nvPr/>
        </p:nvPicPr>
        <p:blipFill>
          <a:blip r:embed="rId2"/>
          <a:stretch/>
        </p:blipFill>
        <p:spPr>
          <a:xfrm>
            <a:off x="304920" y="91440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parthenon"/>
          <p:cNvPicPr/>
          <p:nvPr/>
        </p:nvPicPr>
        <p:blipFill>
          <a:blip r:embed="rId3"/>
          <a:stretch/>
        </p:blipFill>
        <p:spPr>
          <a:xfrm>
            <a:off x="4343400" y="3505320"/>
            <a:ext cx="45338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3:54:19Z</dcterms:created>
  <dc:creator>poweruser</dc:creator>
  <dc:description/>
  <dc:language>en-US</dc:language>
  <cp:lastModifiedBy>poweruser</cp:lastModifiedBy>
  <dcterms:modified xsi:type="dcterms:W3CDTF">2012-03-02T19:48:46Z</dcterms:modified>
  <cp:revision>4</cp:revision>
  <dc:subject/>
  <dc:title>Slide 1</dc:title>
</cp:coreProperties>
</file>